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6D1-2BA3-4AF6-B7BD-CE60273C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DFD-5119-4AD4-9E76-DC2B40D4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B0B-CE2A-484E-96C2-7B78019F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491-F5CD-44D1-BDC6-3B37C739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3AE-F42F-494E-8E30-A914EB54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4B8-2F42-485D-9F63-A9108466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FD9-7FC1-4253-84A4-E1690D44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4E2-90A3-43A7-91D5-930E9B30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3E9-5179-4419-B86A-A1702D9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DA4-E996-41FE-86C6-EE242EF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55A-21A0-4FEC-9321-2791A46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CE8-3DDD-4C60-9A66-8F27303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EB12-BF22-469B-831F-C0524BC5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warhistory1944.co.uk/images/d_day_6_lg.jpg&amp;imgrefurl=http://www.warhistory1944.co.uk/dday_hell_on_the_beach.html&amp;usg=__xLJ23TFE29Xu2_te98Y9NIolHKM=&amp;h=514&amp;w=850&amp;sz=123&amp;hl=en&amp;start=28&amp;um=1&amp;tbnid=F5umTRhWDGKk4M:&amp;tbnh=88&amp;tbnw=145&amp;prev=/images%3Fq%3Dd%2Bday%26ndsp%3D20%26hl%3Den%26safe%3Dactive%26sa%3DN%26start%3D20%26um%3D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ubversiveuniverse.com/PIX/War%20&amp;%20Peace/20070428012236!Eisenhower_d-day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nsubmus.co.uk/images/dday/02%20-%20D-Day%20map.gi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herealbarackobama.files.wordpress.com/2009/05/1-dday-beac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ndrewromanblog.files.wordpress.com/2009/06/d-day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Letourn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2590920" cy="157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57 0.94289 C 0.71927 0.94867 0.7092 0.95168 0.67778 0.95353 C 0.67622 0.95422 0.67448 0.95445 0.67292 0.95561 C 0.66962 0.95815 0.66702 0.96231 0.66337 0.96416 C 0.64636 0.97179 0.63073 0.98174 0.61268 0.9852 C 0.48993 1.05272 0.60469 0.99122 0.23177 0.9852 C 0.20399 0.98474 0.17674 0.9785 0.14913 0.97688 C 0.08768 0.97318 0.02639 0.96994 -0.03489 0.96416 C -0.04757 0.96116 -0.06094 0.96116 -0.07309 0.95561 C -0.08368 0.95075 -0.09375 0.94289 -0.10486 0.94081 C -0.11823 0.93827 -0.13003 0.93249 -0.14288 0.92809 C -0.16094 0.92208 -0.17899 0.91838 -0.19687 0.91122 C -0.20104 0.90752 -0.20573 0.90497 -0.20955 0.90081 C -0.21406 0.89572 -0.22222 0.8837 -0.22222 0.8837 C -0.22552 0.87307 -0.23021 0.86705 -0.23333 0.85642 C -0.24496 0.78127 -0.23906 0.82728 -0.23489 0.66405 C -0.2342 0.63561 -0.22413 0.6074 -0.22066 0.57942 C -0.21701 0.55052 -0.21545 0.52324 -0.20955 0.4948 C -0.2066 0.46289 -0.20885 0.48324 -0.20156 0.4333 C -0.19757 0.40578 -0.20208 0.39769 -0.19375 0.37642 C -0.17535 0.32925 -0.14357 0.28879 -0.11597 0.25179 C -0.09687 0.2259 -0.0776 0.18913 -0.0526 0.17341 C 0.0158 0.13087 0.08681 0.10312 0.16024 0.08046 C 0.29913 0.03746 0.22691 0.04856 0.35399 0.04254 C 0.41059 0.037 0.46511 0.03052 0.52222 0.02775 C 0.56459 0.03052 0.60695 0.03145 0.64913 0.03607 C 0.69167 0.0407 0.7349 0.0585 0.77622 0.07214 C 0.80486 0.09572 0.83177 0.11908 0.85868 0.14613 C 0.8783 0.16601 0.88177 0.16416 0.90313 0.1926 C 0.91233 0.20486 0.92066 0.21827 0.93004 0.23052 C 0.94584 0.25156 0.9375 0.23491 0.95399 0.26012 C 0.95677 0.26451 0.95868 0.27052 0.96181 0.27491 C 0.96493 0.27931 0.96945 0.28162 0.97292 0.28555 C 0.98073 0.29457 0.98577 0.30613 0.99202 0.31723 C 1.00139 0.35653 0.99427 0.4222 0.97934 0.46289 C 0.97552 0.49434 0.97778 0.48023 0.97292 0.5052 C 0.97014 0.57364 0.9908 0.65642 0.96511 0.71468 C 0.96459 0.71815 0.96424 0.72185 0.96337 0.72532 C 0.96268 0.72833 0.96094 0.73064 0.96007 0.73364 C 0.9566 0.75006 0.95608 0.76809 0.95226 0.78451 C 0.95139 0.78798 0.95018 0.79145 0.94913 0.79491 C 0.94809 0.79792 0.94653 0.80046 0.94584 0.80347 C 0.93559 0.84555 0.94844 0.80532 0.93941 0.82682 C 0.93733 0.83237 0.93334 0.8437 0.93334 0.8437 C 0.93038 0.86359 0.92552 0.88254 0.91094 0.89226 C 0.9007 0.87885 0.8941 0.86243 0.88247 0.84994 C 0.83507 0.79861 0.78177 0.75792 0.73646 0.70405 C 0.63733 0.5859 0.54306 0.46058 0.43959 0.3489 C 0.3217 0.22174 0.35504 0.30174 0.2 0.09526 C 0.11945 -0.01225 0.08056 -0.05387 0.01736 -0.21133 C 0.00521 -0.24162 -0.00816 -0.27098 -0.0191 -0.3022 C -0.02778 -0.32693 -0.03142 -0.35445 -0.04132 -0.37826 C -0.04809 -0.39445 -0.08212 -0.42011 -0.06823 -0.42058 C 0.3158 -0.43422 0.7 -0.41919 1.08403 -0.4185 C 1.07969 -0.41248 1.07899 -0.40578 1.07448 -0.3993 C 1.07101 -0.39422 1.06337 -0.38451 1.06337 -0.38451 C 1.06007 -0.37156 1.01459 -0.30913 1.01268 -0.30636 C 0.98698 -0.26798 0.96459 -0.22497 0.93941 -0.18589 C 0.90938 -0.13896 0.87795 -0.09341 0.84601 -0.04878 C 0.8283 -0.02381 0.80868 -0.00115 0.79045 0.02335 C 0.69393 0.15191 0.59896 0.29295 0.47604 0.3785 C 0.3533 0.46382 0.22066 0.50636 0.09202 0.57087 C 0.03403 0.59977 -0.01944 0.64046 -0.07465 0.67653 C -0.07882 0.6837 -0.08489 0.68948 -0.0875 0.6978 C -0.0901 0.70728 -0.0901 0.7096 -0.09531 0.71676 C -0.1026 0.72648 -0.11267 0.73341 -0.12239 0.73804 C -0.12673 0.74382 -0.13055 0.74451 -0.13663 0.74636 C -0.14566 0.75422 -0.15764 0.7563 -0.16823 0.75908 C -0.19496 0.78174 -0.22934 0.76393 -0.26042 0.76324 C -0.26354 0.76023 -0.26632 0.75607 -0.26996 0.75491 C -0.27222 0.75422 -0.27864 0.75237 -0.28107 0.75052 C -0.28906 0.74451 -0.29635 0.73549 -0.3033 0.7274 C -0.31371 0.71515 -0.31875 0.6978 -0.32864 0.68509 C -0.32917 0.68301 -0.32934 0.6807 -0.33021 0.67885 C -0.3309 0.677 -0.33264 0.6763 -0.33333 0.67445 C -0.33837 0.66081 -0.33906 0.64763 -0.34774 0.63653 C -0.35434 0.6185 -0.36076 0.60948 -0.36996 0.59422 C -0.37309 0.58913 -0.37726 0.57642 -0.37934 0.57295 C -0.3934 0.5489 -0.38472 0.57226 -0.39687 0.54775 C -0.40173 0.5378 -0.40312 0.5274 -0.40486 0.51607 C -0.40243 0.48416 -0.40087 0.45411 -0.38732 0.42728 C -0.3868 0.4252 -0.38611 0.42312 -0.38576 0.42081 C -0.38455 0.41387 -0.3842 0.40648 -0.38264 0.39954 C -0.38021 0.38844 -0.37361 0.3711 -0.36823 0.36162 C -0.36701 0.35954 -0.36493 0.35931 -0.36354 0.35723 C -0.35017 0.33965 -0.33767 0.32116 -0.32378 0.30428 C -0.32048 0.30058 -0.30781 0.28301 -0.3033 0.277 C -0.29965 0.27191 -0.29427 0.2696 -0.29045 0.26451 C -0.28507 0.25734 -0.28021 0.24856 -0.27465 0.24116 C -0.27187 0.23746 -0.26701 0.23769 -0.26354 0.23491 C -0.24948 0.22382 -0.23576 0.21133 -0.22066 0.20301 C -0.20035 0.17665 -0.22101 0.20601 -0.20955 0.18405 C -0.20833 0.18174 -0.20625 0.18012 -0.20486 0.1778 C -0.2026 0.17434 -0.20035 0.17087 -0.19844 0.16717 C -0.18819 0.14682 -0.19722 0.15723 -0.18576 0.14613 C -0.18524 0.14266 -0.18559 0.13873 -0.1842 0.13549 C -0.18316 0.13318 -0.18021 0.13364 -0.17934 0.13133 C -0.17014 0.10682 -0.18229 0.11954 -0.17153 0.11006 C -0.16944 0.09896 -0.16476 0.09064 -0.15885 0.08254 C -0.15833 0.07977 -0.15781 0.077 -0.15729 0.07422 C -0.15607 0.07006 -0.15399 0.0615 -0.15399 0.0615 C -0.15295 0.05295 -0.15295 0.04416 -0.15087 0.03607 C -0.15035 0.03307 -0.14705 0.03237 -0.14601 0.0296 C -0.14444 0.0259 -0.14288 0.01711 -0.14288 0.01711 C -0.13993 -0.00717 -0.14375 0.01318 -0.13819 -0.00208 C -0.13646 -0.0067 -0.13663 -0.01225 -0.13489 -0.01688 C -0.13142 -0.02589 -0.12274 -0.02936 -0.11597 -0.03167 C -0.10677 -0.03977 -0.09479 -0.04185 -0.0842 -0.04647 C -0.06996 -0.04555 -0.05555 -0.04532 -0.04132 -0.04416 C -0.02708 -0.04324 0.00156 -0.04 0.00156 -0.04 C 0.00643 -0.03769 0.01563 -0.04254 0.01736 -0.03584 C 0.02813 0.00694 0.01754 6.93642E-007 1.66667E-006 6.93642E-00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it happened and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Day June 6,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50-mile str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azi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French coas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eaches of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orm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erman Armies in occupied France during WWII"/>
          <p:cNvPicPr/>
          <p:nvPr/>
        </p:nvPicPr>
        <p:blipFill>
          <a:blip r:embed="rId1"/>
          <a:stretch/>
        </p:blipFill>
        <p:spPr>
          <a:xfrm>
            <a:off x="4800600" y="1600200"/>
            <a:ext cx="329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086 0.60046 C -0.63802 0.57364 -0.61493 0.5556 -0.59843 0.53271 C -0.57812 0.50451 -0.55538 0.47399 -0.53663 0.44393 C -0.5217 0.41988 -0.51892 0.39722 -0.49843 0.37849 C -0.425 0.31167 -0.33975 0.26844 -0.26041 0.21549 C -0.20434 0.17849 -0.15972 0.12023 -0.10486 0.08046 C -0.04027 0.03352 -0.08003 0.07375 -0.01753 0.02104 C 0.0448 -0.03099 0.10157 -0.08648 0.16025 -0.1459 C 0.17327 -0.15908 0.18768 -0.16971 0.2 -0.18382 C 0.24028 -0.22983 0.27952 -0.27307 0.31893 -0.32139 C 0.33664 -0.34312 0.35209 -0.35469 0.36823 -0.38058 C 0.38108 -0.40139 0.38889 -0.42706 0.40313 -0.44601 C 0.40955 -0.45457 0.41632 -0.46243 0.42223 -0.47145 C 0.43681 -0.49411 0.4474 -0.52232 0.46493 -0.54104 C 0.49948 -0.57804 0.53542 -0.61573 0.56667 -0.65734 C 0.58907 -0.68717 0.57118 -0.65434 0.59202 -0.69966 C 0.59497 -0.70613 0.59827 -0.72093 0.59827 -0.72093 C 0.58542 -0.85943 0.40868 -0.74706 0.3158 -0.73341 C 0.27743 -0.71469 0.23698 -0.69711 0.20313 -0.6659 C 0.19063 -0.65434 0.18264 -0.64047 0.17136 -0.62752 C 0.16754 -0.62336 0.1625 -0.62174 0.15868 -0.61734 C 0.15122 -0.60902 0.14497 -0.59885 0.13802 -0.58983 C 0.13282 -0.58312 0.10851 -0.54867 0.09827 -0.53896 C 0.08542 -0.52694 0.07188 -0.51653 0.05868 -0.50521 C 0.04549 -0.49388 0.03108 -0.48555 0.01736 -0.47561 C -0.00139 -0.4622 -0.02257 -0.43677 -0.04288 -0.42521 C -0.05885 -0.41596 -0.07448 -0.40648 -0.08264 -0.38474 C -0.08802 -0.38636 -0.09618 -0.38937 -0.09687 -0.38474 C -0.10017 -0.36116 -0.09496 -0.35561 -0.09062 -0.33827 C -0.09045 -0.32578 -0.09548 -0.04324 -0.07465 0.04023 C -0.0559 0.11491 -0.03715 0.15445 -0.00329 0.22404 C 0.00886 0.24925 0.02448 0.27144 0.0349 0.2978 C 0.04792 0.3311 0.07032 0.38821 0.08559 0.41641 C 0.09445 0.43283 0.10417 0.44925 0.11111 0.46705 C 0.13195 0.52023 0.15157 0.57341 0.1698 0.62797 C 0.17518 0.66011 0.1757 0.69318 0.18247 0.72508 C 0.18559 0.77133 0.17448 0.80046 0.20782 0.80763 C 0.2198 0.80531 0.22292 0.803 0.2349 0.80555 C 0.21719 0.78196 0.19115 0.77873 0.1698 0.76323 C 0.11546 0.72416 0.05591 0.69341 0.00469 0.6467 C -0.07777 0.57202 -0.04166 0.60439 -0.10329 0.54936 C -0.13437 0.52185 -0.14861 0.47052 -0.17152 0.43121 C -0.27014 0.26196 -0.15312 0.46081 -0.26041 0.29595 C -0.29045 0.24994 -0.31909 0.20208 -0.34774 0.15445 C -0.37847 0.10335 -0.40798 0.06242 -0.41597 -0.00232 C -0.41701 -0.02382 -0.41701 -0.04578 -0.41909 -0.06752 C -0.41996 -0.077 -0.43177 -0.11653 -0.43333 -0.12047 C -0.44375 -0.14706 -0.45208 -0.17596 -0.46666 -0.19862 C -0.48211 -0.22266 -0.49514 -0.24971 -0.51284 -0.27052 C -0.55816 -0.32393 -0.5302 -0.29249 -0.59843 -0.36139 C -0.62586 -0.3889 -0.6618 -0.40278 -0.6842 -0.43746 C -0.69392 -0.45249 -0.70607 -0.46567 -0.71441 -0.48185 C -0.72968 -0.51191 -0.71753 -0.49457 -0.7302 -0.51145 C -0.73298 -0.51908 -0.73541 -0.52463 -0.73975 -0.53064 C -0.7427 -0.54243 -0.74114 -0.54451 -0.75086 -0.54104 C -0.75434 -0.53411 -0.75555 -0.52694 -0.75885 -0.52 C -0.76128 -0.51492 -0.76666 -0.50521 -0.76666 -0.50521 C -0.76909 -0.49295 -0.77569 -0.48139 -0.78107 -0.47145 C -0.79062 -0.45388 -0.8 -0.43515 -0.80798 -0.41642 C -0.81423 -0.40208 -0.82066 -0.39214 -0.82395 -0.37619 C -0.82343 -0.34382 -0.82361 -0.31145 -0.82222 -0.27908 C -0.82187 -0.2726 -0.81961 -0.26636 -0.81909 -0.25989 C -0.8158 -0.22428 -0.81666 -0.18867 -0.80798 -0.15422 C -0.79843 -0.11584 -0.7835 -0.07307 -0.7651 -0.04023 C -0.7618 -0.03422 -0.73836 0.00231 -0.73177 0.01479 C -0.71527 0.04601 -0.69514 0.07838 -0.67465 0.10566 C -0.66996 0.1119 -0.66336 0.11584 -0.65885 0.12254 C -0.65382 0.13017 -0.65121 0.14034 -0.64618 0.14797 C -0.63038 0.17271 -0.60711 0.20439 -0.58732 0.22612 C -0.5651 0.25063 -0.53698 0.25734 -0.50954 0.26636 C -0.50451 0.26797 -0.50017 0.27237 -0.49531 0.27491 C -0.47257 0.2867 -0.44514 0.30196 -0.42066 0.30659 C -0.35902 0.30242 -0.30017 0.29664 -0.23819 0.29387 C -0.22291 0.29063 -0.20746 0.28809 -0.19218 0.28531 C -0.18385 0.27884 -0.17448 0.27399 -0.1651 0.27052 C -0.15191 0.25873 -0.14392 0.24855 -0.12864 0.24531 C -0.12014 0.24069 -0.1118 0.23514 -0.10329 0.23052 C -0.09722 0.22242 -0.08645 0.21757 -0.08264 0.20716 C -0.08003 0.2 -0.07378 0.18751 -0.06996 0.18173 C -0.06579 0.17526 -0.05972 0.17133 -0.05555 0.16485 C -0.04843 0.15422 -0.03975 0.13942 -0.03507 0.12693 C -0.02864 0.08693 -0.03177 0.10566 -0.03333 0.02959 C -0.03281 0.02404 -0.03385 0.01734 -0.03177 0.01271 C -0.02986 0.00809 -0.0243 0.00994 -0.02066 0.00855 C -0.01649 0.00693 -0.00798 0.00416 -0.00798 0.00416 C -0.00243 -0.00116 -0.0052 4.16185E-006 -1.66667E-006 4.16185E-006 E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nd the 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use was Hitler taking over fran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June 6, 1944, 160,000 Allied troops la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operation a crusade in which accept nothing less than full vi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100,000 Soldiers began the march across Europe to defeat Hit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4097 -0.37226 C -0.83072 -0.36186 -0.82326 -0.34521 -0.81406 -0.33226 C -0.78749 -0.29388 -0.75763 -0.25249 -0.72534 -0.2222 C -0.64062 -0.14267 -0.55121 -0.07469 -0.47274 0.01664 C -0.40624 0.0941 -0.34027 0.17271 -0.2743 0.25132 C -0.20294 0.33687 -0.1526 0.40647 -0.06961 0.47745 C -0.03194 0.50959 0.01025 0.53109 0.04931 0.55999 C 0.11442 0.60809 0.17848 0.65872 0.24306 0.70797 C 0.28178 0.73757 0.36963 0.78358 0.39063 0.83676 C 0.39428 0.8571 0.40608 0.87514 0.41285 0.89387 C 0.4382 0.96485 0.40105 0.87421 0.42709 0.93618 C 0.42883 0.94404 0.42987 0.9519 0.43195 0.95953 C 0.43386 0.96739 0.43647 0.97479 0.4382 0.98265 C 0.43976 0.98959 0.43976 0.99699 0.4415 1.00392 C 0.4441 1.01456 0.44966 1.02034 0.454 1.02913 C 0.45348 1.04115 0.45487 1.05363 0.45261 1.0652 C 0.45192 1.06797 0.44827 1.06728 0.44636 1.06728 C 0.39428 1.06658 0.34272 1.0645 0.29063 1.06311 C 0.19324 1.04762 0.09497 1.04577 -0.00312 1.0356 C -0.24201 1.03652 -0.44201 1.03144 -0.66666 1.05248 C -0.70537 1.05132 -0.72534 1.05363 -0.75694 1.046 C -0.76319 1.04046 -0.76718 1.04022 -0.77447 1.03768 C -0.77777 1.03652 -0.78385 1.03352 -0.78385 1.03352 C -0.77499 1.00924 -0.78159 1.02404 -0.7585 0.99329 C -0.73992 0.96832 -0.72777 0.93572 -0.70937 0.91074 C -0.50781 0.64207 -0.68246 0.87074 -0.52534 0.67398 C -0.37412 0.48485 -0.22083 0.29757 -0.10919 0.06103 C -0.07187 -0.0185 -0.03385 -0.09804 0.00348 -0.17781 C 0.01841 -0.20995 0.03542 -0.24093 0.04792 -0.27515 C 0.06407 -0.31978 0.0974 -0.41342 0.11928 -0.4696 C 0.13803 -0.51816 0.12101 -0.48001 0.14306 -0.51191 C 0.14497 -0.51492 0.14567 -0.51954 0.14792 -0.52255 C 0.14897 -0.52417 0.15417 -0.52463 0.15244 -0.52463 C 0.15035 -0.52463 0.14844 -0.52324 0.14619 -0.52255 C 0.12362 -0.49226 0.07848 -0.48995 0.04931 -0.4844 C 0.03143 -0.48093 0.01338 -0.47631 -0.00451 -0.47376 C -0.13055 -0.45665 -0.25746 -0.45365 -0.38402 -0.44856 C -0.4309 -0.44209 -0.4769 -0.43099 -0.5236 -0.42521 C -0.54201 -0.41943 -0.5611 -0.41573 -0.57916 -0.40833 C -0.59565 -0.40163 -0.61058 -0.39006 -0.62673 -0.3829 C -0.63419 -0.38521 -0.6368 -0.38752 -0.64444 -0.38498 C -0.65746 -0.35561 -0.65746 -0.31654 -0.66162 -0.28348 C -0.66006 -0.26035 -0.66058 -0.23677 -0.65711 -0.21388 C -0.65642 -0.20995 -0.64322 -0.19353 -0.64096 -0.19053 C -0.6276 -0.17064 -0.61371 -0.1533 -0.59652 -0.13989 C -0.58385 -0.12995 -0.57378 -0.11631 -0.56006 -0.10821 C -0.55381 -0.10475 -0.54721 -0.10359 -0.54114 -0.09989 C -0.52586 -0.09018 -0.51249 -0.07469 -0.49652 -0.06798 C -0.44739 -0.04787 -0.40346 -0.03261 -0.35208 -0.02775 C -0.33958 -0.02914 -0.32656 -0.02937 -0.31423 -0.03191 C -0.30034 -0.03492 -0.28367 -0.05342 -0.27586 -0.06798 C -0.26996 -0.07908 -0.26892 -0.09111 -0.26336 -0.10174 C -0.26666 -0.13226 -0.27603 -0.12833 -0.29513 -0.1355 C -0.31475 -0.1429 -0.33142 -0.1466 -0.35208 -0.14821 C -0.37395 -0.14983 -0.39565 -0.15122 -0.41718 -0.15261 C -0.43628 -0.15122 -0.45537 -0.15099 -0.47447 -0.14821 C -0.49218 -0.14567 -0.50676 -0.12371 -0.51406 -0.10382 C -0.52933 -0.06359 -0.53385 -0.01827 -0.5427 0.02496 C -0.54201 0.04115 -0.54392 0.05803 -0.54114 0.07375 C -0.54044 0.07722 -0.53576 0.0756 -0.53315 0.07583 C -0.51006 0.07699 -0.48645 0.07722 -0.46319 0.07791 C -0.42031 0.08809 -0.43871 0.08254 -0.40781 0.09271 C -0.40346 0.09202 -0.39878 0.09317 -0.39496 0.09063 C -0.39322 0.08924 -0.3993 0.08832 -0.40156 0.08855 C -0.41006 0.0897 -0.4184 0.09271 -0.4269 0.09479 C -0.46024 0.11699 -0.44617 0.10681 -0.46961 0.12439 C -0.49062 0.16092 -0.49218 0.15745 -0.49826 0.19837 C -0.49652 0.21942 -0.49704 0.24115 -0.4934 0.26173 C -0.48298 0.32022 -0.44461 0.38496 -0.40312 0.40739 C -0.38281 0.41849 -0.35954 0.40901 -0.33801 0.4097 C -0.26024 0.41895 -0.18228 0.41502 -0.10451 0.40346 C -0.07916 0.38866 -0.05364 0.37387 -0.02829 0.35907 C -0.01944 0.35398 -0.00416 0.33479 0.00174 0.32508 C 0.02848 0.28277 0.04706 0.23421 0.07171 0.19005 C 0.08699 0.16254 0.10088 0.13248 0.11442 0.10335 C 0.11928 0.09317 0.12726 0.07167 0.12726 0.07167 C 0.12657 0.05895 0.1264 0.04624 0.12553 0.03352 C 0.12501 0.0245 0.12362 0.02496 0.12067 0.01664 C 0.11077 -0.01365 0.09671 -0.04417 0.07171 -0.05527 C 0.06129 -0.06544 0.06772 -0.06035 0.05105 -0.06798 C 0.04931 -0.06891 0.04619 -0.07006 0.04619 -0.07006 C 0.03143 -0.05527 0.0349 -0.05897 0.02553 -0.04047 C 0.02379 -0.03053 0.02327 -0.02683 0.01772 -0.01943 C 0.01476 -0.0081 0.01737 -0.01457 0.00799 -0.00232 C 0.00626 0.00022 6.94444E-006 -0.00024 6.94444E-006 -0.00024 E"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son it was memorable and why was it important to WW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9,000 Allied Soldiers were killed or w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eason Hitler fail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was sav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4800600"/>
            <a:ext cx="2248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01 0.26636 C -0.1658 0.27306 -0.17309 0.29387 -0.19045 0.30428 C -0.21094 0.31653 -0.23021 0.33711 -0.25226 0.34451 C -0.31649 0.36601 -0.3816 0.36578 -0.44757 0.36786 C -0.51701 0.3674 -0.88108 0.42751 -1.07135 0.34867 C -1.07396 0.3459 -1.07934 0.34474 -1.07934 0.34035 C -1.0809 0.16069 -1.07951 -0.01942 -1.07604 -0.19884 C -1.07587 -0.21133 -1.07135 -0.22289 -1.06823 -0.23468 C -1.06024 -0.26451 -1.05121 -0.29387 -1.04271 -0.32347 C -1.03976 -0.33387 -1.02743 -0.39445 -1.02535 -0.40601 C -0.99896 -0.56093 -0.95851 -0.69804 -0.87934 -0.81827 C -0.84253 -0.87399 -0.91267 -0.77873 -0.84913 -0.86243 C -0.84271 -0.87075 -0.83559 -0.89688 -0.83003 -0.90266 C -0.81285 -0.92046 -0.79809 -0.93549 -0.77621 -0.94289 C -0.74705 -0.9526 -0.71024 -0.95491 -0.68108 -0.95561 C -0.57691 -0.95815 -0.47239 -0.95838 -0.36823 -0.95977 C -0.34878 -0.96162 -0.33038 -0.96717 -0.31111 -0.97041 C -0.29948 -0.97225 -0.27604 -0.97457 -0.27604 -0.97457 C -0.2408 -0.9741 -0.13889 -0.97526 -0.08715 -0.96832 C -0.02396 -0.96 0.0382 -0.94821 0.10174 -0.94289 C 0.20625 -0.93434 0.31129 -0.93595 0.4158 -0.93434 C 0.42656 -0.92971 0.44965 -0.88694 0.45712 -0.87306 C 0.47396 -0.84254 0.4875 -0.80948 0.5033 -0.77804 C 0.50903 -0.76671 0.51163 -0.7533 0.51754 -0.74197 C 0.52743 -0.7237 0.54028 -0.70983 0.54445 -0.68717 C 0.54288 -0.59353 0.54792 -0.39815 0.5382 -0.30451 C 0.53715 -0.28509 0.53611 -0.26682 0.53333 -0.2474 C 0.53177 -0.23792 0.52726 -0.23006 0.52552 -0.21988 C 0.51007 -0.23283 0.51771 -0.22936 0.5033 -0.2326 C 0.47292 -0.25804 0.43455 -0.26058 0.4 -0.27075 C 0.34184 -0.2874 0.28767 -0.29434 0.22865 -0.30266 C 0.15278 -0.31283 0.15729 -0.31838 0.07778 -0.33225 C 0.00695 -0.34428 -0.06458 -0.35098 -0.13489 -0.36578 C -0.25312 -0.39075 -0.36892 -0.4289 -0.48715 -0.45249 C -0.6842 -0.49225 -0.88021 -0.52486 -1.07934 -0.53272 C -1.07882 -0.53757 -1.07969 -0.54312 -1.07778 -0.54751 C -1.07205 -0.56116 -1.0375 -0.56948 -1.02691 -0.57295 C -0.98559 -0.58659 -0.94583 -0.60763 -0.90469 -0.6215 C -0.89201 -0.62567 -0.87899 -0.62821 -0.86667 -0.63422 C -0.83246 -0.65087 -0.79948 -0.67283 -0.7651 -0.68925 C -0.74288 -0.69988 -0.72014 -0.70844 -0.69826 -0.72093 C -0.64236 -0.75283 -0.58837 -0.79006 -0.53333 -0.82451 C -0.51528 -0.83584 -0.5 -0.8541 -0.48264 -0.86682 C -0.46788 -0.87746 -0.45104 -0.88301 -0.43646 -0.89434 C -0.40451 -0.91908 -0.37396 -0.94775 -0.34288 -0.97457 C -0.31198 -1.00093 -0.27708 -1.0185 -0.24618 -1.04439 C -0.18993 -1.0911 -0.21979 -1.07723 -0.15712 -1.08879 C 0.1283 -1.08647 0.08299 -1.19653 0.09201 -1.04647 C 0.09288 -1.03653 0.09358 -1.03584 0.0967 -1.02751 C 0.09861 -1.00624 0.10573 -0.99514 0.11267 -0.97665 C 0.12552 -0.94289 0.12413 -0.93318 0.14132 -0.8985 C 0.15226 -0.87584 0.16354 -0.85341 0.17448 -0.83075 C 0.20191 -0.77434 0.1941 -0.79121 0.22205 -0.71445 C 0.22882 -0.69642 0.2375 -0.67908 0.24115 -0.65965 C 0.24636 -0.63214 0.25087 -0.60509 0.25399 -0.57734 C 0.2566 -0.52393 0.26372 -0.46936 0.27622 -0.4185 C 0.28142 -0.39699 0.28837 -0.37642 0.29375 -0.35514 C 0.29757 -0.32277 0.30747 -0.29364 0.31441 -0.26243 C 0.3184 -0.24324 0.32326 -0.22405 0.32691 -0.20509 C 0.33316 -0.17387 0.32674 -0.19376 0.33333 -0.17572 C 0.33195 -0.15283 0.33629 -0.12832 0.32847 -0.10775 C 0.29479 -0.01804 0.18073 -0.00809 0.12396 0.00832 C 0.03993 0.0326 -0.03871 0.04023 -0.12535 0.04208 C -0.18264 0.0437 -0.23958 0.04393 -0.2967 0.04439 C -0.41649 0.04532 -0.53594 0.04555 -0.65555 0.04647 C -0.66458 0.04994 -0.67344 0.05364 -0.68246 0.05688 C -0.68785 0.05919 -0.69826 0.06543 -0.69826 0.06543 C -0.70781 0.07792 -0.72257 0.08879 -0.73507 0.09711 C -0.74062 0.09572 -0.7493 0.09965 -0.75226 0.09272 C -0.75729 0.08185 -0.75312 0.06751 -0.75399 0.05503 C -0.75434 0.04855 -0.75746 0.04162 -0.75868 0.03584 C -0.76076 0.02728 -0.76042 0.02127 -0.7618 0.01272 C -0.76285 0.00832 -0.7651 -1.79191E-006 -0.7651 -1.79191E-006 C -0.76545 -0.00509 -0.76562 -0.00994 -0.76684 -0.0148 C -0.76736 -0.0178 -0.76944 -0.02035 -0.76979 -0.02358 C -0.77274 -0.03931 -0.77066 -0.05804 -0.77795 -0.07191 C -0.77847 -0.09249 -0.77847 -0.11283 -0.77934 -0.13318 C -0.77969 -0.14243 -0.78733 -0.15861 -0.78733 -0.15861 C -0.78924 -0.17896 -0.7934 -0.21457 -0.79045 -0.22844 C -0.78958 -0.23376 -0.78316 -0.22405 -0.77934 -0.22197 C -0.76649 -0.20486 -0.75104 -0.19491 -0.73507 -0.18405 C -0.70208 -0.18474 -0.66927 -0.18335 -0.63646 -0.18636 C -0.63489 -0.18659 -0.63628 -0.19075 -0.63489 -0.19237 C -0.63281 -0.19538 -0.62951 -0.19676 -0.62691 -0.19884 C -0.61944 -0.21341 -0.62361 -0.20856 -0.6158 -0.21572 C -0.61233 -0.22289 -0.61233 -0.22913 -0.60799 -0.23468 C -0.60434 -0.25526 -0.60295 -0.25804 -0.60799 -0.28971 C -0.60885 -0.29595 -0.61319 -0.29988 -0.6158 -0.30451 C -0.6217 -0.31561 -0.62934 -0.32671 -0.63646 -0.33642 C -0.64045 -0.34983 -0.64479 -0.36832 -0.65243 -0.37873 C -0.65538 -0.39075 -0.65555 -0.39538 -0.66198 -0.4037 C -0.66371 -0.41087 -0.66476 -0.41804 -0.66667 -0.4252 C -0.66632 -0.4615 -0.66632 -0.49827 -0.66493 -0.5348 C -0.66458 -0.5415 -0.66198 -0.54751 -0.66024 -0.55399 C -0.6559 -0.57249 -0.65677 -0.59838 -0.64601 -0.61318 C -0.64427 -0.62035 -0.64184 -0.62474 -0.63802 -0.63006 C -0.63785 -0.63214 -0.63611 -0.64624 -0.63489 -0.64694 C -0.63281 -0.64902 -0.62239 -0.65202 -0.6191 -0.65341 C -0.59323 -0.65249 -0.5651 -0.66266 -0.54114 -0.64902 C -0.51649 -0.63538 -0.5 -0.60671 -0.48264 -0.58127 C -0.47396 -0.56879 -0.46476 -0.55676 -0.45712 -0.54335 C -0.45243 -0.5348 -0.44809 -0.52601 -0.44271 -0.51792 C -0.43837 -0.51121 -0.43264 -0.50613 -0.42864 -0.49919 C -0.40451 -0.45619 -0.38316 -0.41087 -0.35868 -0.36809 C -0.35278 -0.35769 -0.34826 -0.3452 -0.34114 -0.33642 C -0.30017 -0.28439 -0.25642 -0.23676 -0.2158 -0.18405 C -0.20694 -0.17225 -0.19271 -0.14913 -0.18559 -0.13318 C -0.17986 -0.12 -0.17778 -0.10497 -0.16979 -0.09295 C -0.15712 -0.07306 -0.13837 -0.04601 -0.12066 -0.03399 C -0.11614 -0.02497 -0.1125 -0.02173 -0.10469 -0.01896 C -0.10312 -0.01642 -0.10226 -0.01272 -0.10017 -0.01064 C -0.09722 -0.00809 -0.09045 -0.00647 -0.09045 -0.00647 C -0.08333 0.00301 -0.09097 -0.00555 -0.07465 -1.79191E-006 C -0.0684 0.00185 -0.06858 0.00532 -0.06337 0.00832 C -0.05434 0.01364 -0.04444 0.0178 -0.03507 0.02104 C -0.02153 0.01642 -0.01441 0.01526 0.00174 0.01272 C -0.00017 0.00139 2.5E-006 0.00555 2.5E-006 -1.79191E-006 E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peop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: Dec. 12, 1875, died: Feb. 24, 195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dstedt, Karl Rudolf Gerd v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r of the armies that invaded southern Pol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in the invasion of France in spring of 19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 of marshal of the Re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d the armies of the south in the invasion of the USS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ped at Rostov by Soviet Marshal Timoshenk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e D-Day invasions of June 1944, Rundstedt was German supreme comman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ed the Battle of the Bulge and facing imminent defeat, he retired in March 19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447920"/>
            <a:ext cx="22096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05 0.76601 C -0.62448 0.76532 -0.57673 0.76601 -0.52916 0.76393 C -0.52378 0.7637 -0.51597 0.7526 -0.51007 0.75121 C -0.50382 0.7496 -0.49739 0.74983 -0.49114 0.74913 C -0.471 0.74266 -0.48264 0.74543 -0.45607 0.74289 C -0.2559 0.74405 -0.05764 0.74451 0.14219 0.74058 C 0.14827 0.73272 0.1441 0.72832 0.14063 0.71954 C 0.13768 0.70312 0.13542 0.68578 0.12952 0.67098 C 0.12657 0.64763 0.12032 0.6259 0.11528 0.60324 C 0.11233 0.59029 0.11268 0.57619 0.11059 0.56301 C 0.10782 0.54543 0.10521 0.52786 0.10261 0.51029 C 0.10157 0.44601 0.09983 0.38358 0.10573 0.32 C 0.10469 0.20902 0.10313 0.17457 0.10105 0.08324 C 0.09983 0.03422 0.10191 -0.02012 0.09462 -0.0689 C 0.09358 -0.10636 0.10018 -0.14543 0.0915 -0.18104 C 0.09045 -0.1852 0.08924 -0.18936 0.08837 -0.19376 C 0.08594 -0.20532 0.08386 -0.23121 0.07396 -0.23607 C 0.06893 -0.23861 0.04723 -0.24139 0.04063 -0.24231 C 0.03594 -0.24162 0.03108 -0.24162 0.02639 -0.24023 C 0.01771 -0.23769 0.0132 -0.22636 0.00573 -0.22127 C -0.00694 -0.21272 -0.01788 -0.2037 -0.02916 -0.19168 C -0.04409 -0.17572 -0.05972 -0.16 -0.07361 -0.14289 C -0.11527 -0.09179 -0.06441 -0.15306 -0.09427 -0.11329 C -0.11198 -0.08971 -0.13281 -0.06821 -0.14982 -0.0437 C -0.15347 -0.03838 -0.15555 -0.03168 -0.15937 -0.02659 C -0.16302 -0.02173 -0.16805 -0.01873 -0.17205 -0.0141 C -0.17205 -0.0141 -0.19809 0.02058 -0.20225 0.02613 C -0.21232 0.03954 -0.22118 0.05665 -0.23229 0.06844 C -0.2368 0.0733 -0.24253 0.07584 -0.2467 0.08116 C -0.25677 0.09364 -0.26562 0.10821 -0.27517 0.12139 C -0.3184 0.18104 -0.36093 0.24116 -0.40225 0.30312 C -0.40989 0.31468 -0.41666 0.3274 -0.42448 0.33896 C -0.43038 0.34775 -0.43663 0.35653 -0.4434 0.36439 C -0.44705 0.36856 -0.45121 0.37225 -0.45451 0.37711 C -0.47257 0.40301 -0.48645 0.43422 -0.50538 0.45942 C -0.5302 0.49249 -0.55677 0.51515 -0.58941 0.53133 C -0.60538 0.54752 -0.62291 0.56324 -0.63715 0.5822 C -0.65034 0.59977 -0.66284 0.61202 -0.6783 0.62659 C -0.69809 0.64509 -0.67274 0.62682 -0.69114 0.63931 C -0.69583 0.64763 -0.70225 0.65225 -0.70694 0.66035 C -0.72066 0.68393 -0.73663 0.71029 -0.75607 0.72578 C -0.76111 0.7341 -0.76649 0.74382 -0.77205 0.75121 C -0.77777 0.75884 -0.78524 0.76462 -0.79114 0.77249 C -0.79166 0.77457 -0.79114 0.77873 -0.7927 0.77873 C -0.79427 0.77873 -0.79427 0.77457 -0.79427 0.77249 C -0.79427 0.76809 -0.79323 0.76393 -0.7927 0.75977 C -0.79097 0.65804 -0.81875 0.54289 -0.78003 0.45526 C -0.77343 0.42127 -0.75364 0.38058 -0.74027 0.3496 C -0.73628 0.34035 -0.7309 0.33202 -0.7276 0.32208 C -0.72118 0.30243 -0.71128 0.28555 -0.70382 0.26705 C -0.70121 0.26035 -0.7 0.25272 -0.69739 0.24601 C -0.69062 0.22936 -0.68211 0.21387 -0.67517 0.19746 C -0.67361 0.19353 -0.67361 0.18867 -0.67205 0.18474 C -0.67031 0.18012 -0.6677 0.17619 -0.66562 0.17202 C -0.66111 0.15422 -0.66284 0.13757 -0.66406 0.11908 C -0.66666 0.0289 -0.66545 -0.06173 -0.67048 -0.15144 C -0.66371 -0.18636 -0.67135 -0.16994 -0.62448 -0.16624 C -0.57986 -0.16277 -0.53958 -0.15907 -0.49427 -0.15769 C -0.47621 -0.15699 -0.45833 -0.1563 -0.44027 -0.15561 C -0.34132 -0.14705 -0.24288 -0.14913 -0.1434 -0.14728 C -0.11736 -0.14312 -0.0927 -0.13295 -0.06718 -0.12601 C -0.02534 -0.11468 0.02014 -0.12185 0.06285 -0.12185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/A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lantic Wall" really began in Spring of 1942 and involved the construction of minefields, concrete walls, concrete bunkers, barbed wire fences, and fortified artillery empla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its armor, heavy infantry weapons, and anti-tank capabilities were years ahead of the Americans and Brit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800600"/>
            <a:ext cx="21333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56 0.28972 C -0.29792 0.29249 -0.48976 0.30267 -0.68576 0.30451 C -0.76076 0.31862 -0.82656 0.30983 -0.90955 0.31076 C -0.94444 0.31006 -0.97934 0.30983 -1.01424 0.30868 C -1.03889 0.30775 -1.03299 0.31191 -1.03802 0.2918 C -1.0349 0.24139 -1.00313 0.19376 -0.97934 0.15654 C -0.91181 0.05134 -0.81632 -0.01271 -0.72222 -0.06751 C -0.70434 -0.07814 -0.68559 -0.08554 -0.66823 -0.0971 C -0.64531 -0.11236 -0.62552 -0.13572 -0.60156 -0.14797 C -0.50122 -0.19953 -0.44687 -0.20947 -0.35243 -0.24323 C -0.21302 -0.29248 -0.18472 -0.31375 -0.01111 -0.35098 C 0.15503 -0.38658 0.32135 -0.41687 0.48733 -0.45225 C 0.65226 -0.52924 0.72135 -0.51653 0.5809 -0.96184 C 0.56233 -1.02103 0.48455 -0.96046 0.43646 -0.95976 C 0.21458 -0.94358 0.00191 -0.90982 -0.22066 -0.87514 C -0.49392 -0.8326 -0.76771 -0.79838 -1.04132 -0.75884 C -1.04028 -0.68207 -1.0401 -0.60531 -1.03802 -0.52878 C -1.03802 -0.52554 -1.01927 -0.50543 -1.0191 -0.5052 C -1.0066 -0.48716 -0.99549 -0.46959 -0.98247 -0.45225 C -0.92865 -0.38057 -0.87587 -0.29849 -0.8125 -0.24115 C -0.68646 -0.12693 -0.53125 -0.05317 -0.38733 0.00648 C -0.17431 0.09457 0.0474 0.14636 0.26823 0.1859 C 0.43108 0.2155 0.44184 0.21249 0.58247 0.21989 C 0.58194 0.22451 0.58385 0.23168 0.5809 0.23469 C 0.57882 0.23677 0.57813 0.22868 0.57622 0.22613 C 0.57309 0.22197 0.5684 0.21943 0.5651 0.21573 C 0.54497 0.19191 0.52865 0.16301 0.50642 0.14174 C 0.41076 0.05041 0.32674 -0.05895 0.22222 -0.1334 C 0.14549 -0.18774 0.07153 -0.25317 -0.01111 -0.28947 C -0.16042 -0.35514 -0.31094 -0.42866 -0.46823 -0.45225 C -0.51927 -0.45988 -0.57083 -0.45803 -0.62222 -0.4608 C -0.73437 -0.45733 -0.8467 -0.45895 -0.95868 -0.45017 C -0.98958 -0.44762 -0.99115 -0.43907 -1.00313 -0.41641 C -0.97587 -0.36138 -0.87674 -0.36138 -0.83802 -0.3593 C -0.60503 -0.34751 -0.37118 -0.34566 -0.13802 -0.33826 C -0.08559 -0.34242 -0.03316 -0.34497 0.0191 -0.35098 C 0.02257 -0.35144 0.02656 -0.35375 0.02865 -0.35722 C 0.02969 -0.35907 0.02552 -0.35884 0.02378 -0.3593 C 0.01649 -0.36092 0.00903 -0.36254 0.00156 -0.36346 C -0.03056 -0.36739 -0.06302 -0.36878 -0.09531 -0.36994 C -0.16823 -0.37271 -0.24132 -0.3741 -0.31424 -0.37618 C -0.44549 -0.37479 -0.5809 -0.40531 -0.70799 -0.36138 C -0.65764 -0.31468 -0.68976 -0.33988 -0.56354 -0.31907 C -0.39601 -0.29155 -0.22882 -0.27236 -0.06024 -0.26658 C -0.02448 -0.27676 -0.02135 -0.27514 -0.12222 -0.28947 C -0.16128 -0.29525 -0.20052 -0.29687 -0.23976 -0.29826 C -0.33976 -0.30173 -0.43976 -0.30219 -0.53976 -0.30427 C -0.61215 -0.30381 -0.68472 -0.30566 -0.75712 -0.30219 C -0.76007 -0.30196 -0.7533 -0.29595 -0.75087 -0.29387 C -0.74115 -0.28601 -0.73108 -0.27884 -0.72066 -0.2726 C -0.64861 -0.23005 -0.64878 -0.23306 -0.5651 -0.21132 C -0.44878 -0.1815 -0.33507 -0.17803 -0.21753 -0.16277 C -0.18628 -0.15884 -0.12378 -0.14797 -0.12378 -0.14797 C -0.17066 -0.16624 -0.09323 -0.13456 -0.17135 -0.17572 C -0.2033 -0.19236 -0.23542 -0.20855 -0.26823 -0.22196 C -0.28802 -0.23005 -0.30833 -0.23537 -0.32865 -0.24115 C -0.34115 -0.24462 -0.3776 -0.25872 -0.36667 -0.2497 C -0.35035 -0.2356 -0.32917 -0.2356 -0.31111 -0.22635 C -0.26389 -0.20161 -0.21476 -0.17733 -0.17135 -0.14173 C -0.11059 -0.09179 -0.09392 -0.00809 -0.04444 0.05295 C 0.05799 0.17966 0.04514 0.18035 0.15243 0.21989 C 0.17587 0.22845 0.2 0.23399 0.22378 0.24093 C 0.30903 0.23122 0.30608 0.2511 0.35399 0.19423 C 0.37569 0.06706 0.33021 -0.06242 0.30955 -0.18589 C 0.30573 -0.24323 0.30382 -0.30057 0.29688 -0.35722 C 0.29635 -0.40439 0.29688 -0.45179 0.29531 -0.49895 C 0.29514 -0.50219 0.29288 -0.50427 0.29201 -0.50728 C 0.29115 -0.51028 0.29167 -0.51352 0.29045 -0.51583 C 0.28698 -0.52254 0.27865 -0.52577 0.27309 -0.52878 C 0.26528 -0.53849 0.27483 -0.52762 0.2651 -0.53479 C 0.26181 -0.53733 0.25885 -0.5408 0.25556 -0.54335 C 0.24028 -0.55468 0.2217 -0.56069 0.20469 -0.56439 C 0.19201 -0.57271 0.2026 -0.56739 0.17934 -0.57086 C 0.14358 -0.57618 0.11111 -0.5808 0.07465 -0.58335 C 0.05868 -0.58265 0.04271 -0.58358 0.02691 -0.5815 C 0.01858 -0.58011 0.02014 -0.57433 0.0158 -0.56855 C 0.00278 -0.55144 -0.01094 -0.53063 -0.02691 -0.51791 C -0.03524 -0.49965 -0.04774 -0.48601 -0.05556 -0.46705 C -0.06198 -0.45132 -0.06146 -0.43306 -0.0651 -0.41641 C -0.06632 -0.41132 -0.06858 -0.4067 -0.06979 -0.40161 C -0.07066 -0.39329 -0.07448 -0.38497 -0.07465 -0.37618 C -0.07587 -0.32462 -0.07135 -0.30913 -0.0651 -0.26658 C -0.06458 -0.20601 -0.06597 -0.14543 -0.06354 -0.08485 C -0.06319 -0.07629 -0.0559 -0.07075 -0.05243 -0.06335 C -0.04253 -0.04254 -0.03003 -0.01895 -0.01424 -0.00624 C -0.00903 0.00417 -0.01302 6.18497E-006 0 6.18497E-006 E">
                                      <p:cBhvr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ilitaryhistoryonline.com/wwii/dda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rmy.mil/D-da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b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wwII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roman.net/2009/06/06/remembering-d-day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albarackobama.wordpress.com/...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7772400"/>
            <a:ext cx="29052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71 0.11376 C -0.25243 0.11098 -0.28906 0.09688 -0.32795 0.0948 C -0.44062 0.08879 -0.55347 0.08971 -0.66614 0.08832 C -0.675 0.08601 -0.68038 0.08416 -0.6868 0.07561 C -0.69219 0.05433 -0.68941 0.06798 -0.68507 0.02081 C -0.68073 -0.02636 -0.6658 -0.07145 -0.6566 -0.11676 C -0.6493 -0.15237 -0.6375 -0.22451 -0.6375 -0.22428 C -0.63264 -0.27908 -0.62621 -0.31653 -0.62483 -0.37249 C -0.62465 -0.38936 -0.6243 -0.53711 -0.62014 -0.57757 C -0.61528 -0.62474 -0.59184 -0.6659 -0.57569 -0.70659 C -0.56875 -0.72439 -0.56823 -0.75353 -0.55816 -0.76786 C -0.55104 -0.79121 -0.55486 -0.78243 -0.54861 -0.79538 C -0.54583 -0.81017 -0.54826 -0.80139 -0.53906 -0.82058 C -0.53819 -0.82243 -0.53819 -0.82497 -0.5375 -0.82705 C -0.53611 -0.83075 -0.53472 -0.83422 -0.53281 -0.83746 C -0.5217 -0.85642 -0.51042 -0.87515 -0.49948 -0.89457 C -0.49757 -0.90243 -0.49427 -0.90844 -0.49149 -0.91584 C -0.49045 -0.90243 -0.48871 -0.87075 -0.48507 -0.86081 C -0.48194 -0.84971 -0.47396 -0.82705 -0.47396 -0.82682 C -0.47205 -0.80671 -0.47205 -0.78613 -0.46771 -0.76578 C -0.46458 -0.74798 -0.46267 -0.72809 -0.45903 -0.71075 C -0.45573 -0.6985 -0.45052 -0.68671 -0.44705 -0.67468 C -0.44271 -0.6585 -0.4408 -0.64046 -0.43628 -0.62405 C -0.43403 -0.61757 -0.43142 -0.61156 -0.42969 -0.60509 C -0.42691 -0.59607 -0.4243 -0.58682 -0.4217 -0.57757 C -0.42031 -0.57272 -0.42014 -0.5674 -0.4184 -0.56278 C -0.41528 -0.55445 -0.41094 -0.54728 -0.40729 -0.53942 C -0.40295 -0.53041 -0.40052 -0.51931 -0.39618 -0.50983 C -0.39253 -0.49041 -0.39549 -0.4978 -0.38993 -0.48671 C -0.38802 -0.47884 -0.38524 -0.47237 -0.38194 -0.46543 C -0.37986 -0.45434 -0.375 -0.44393 -0.37083 -0.43376 C -0.36805 -0.42682 -0.36285 -0.41272 -0.36285 -0.41249 C -0.36128 -0.4037 -0.35816 -0.3963 -0.3566 -0.38728 C -0.33698 -0.41249 -0.35347 -0.38867 -0.34705 -0.47399 C -0.34549 -0.49503 -0.34253 -0.51052 -0.33906 -0.5311 C -0.33507 -0.55445 -0.33403 -0.57734 -0.32951 -0.60069 C -0.32795 -0.64671 -0.32569 -0.69202 -0.32483 -0.73827 C -0.32413 -0.7711 -0.33038 -0.82358 -0.31701 -0.85873 C -0.31476 -0.8726 -0.31233 -0.87908 -0.30573 -0.89041 C -0.30052 -0.87607 -0.29809 -0.86081 -0.29305 -0.84601 C -0.28611 -0.79422 -0.2651 -0.74659 -0.25035 -0.69804 C -0.24635 -0.68532 -0.24236 -0.67283 -0.23924 -0.65989 C -0.2368 -0.65017 -0.23299 -0.63029 -0.23299 -0.63006 C -0.23194 -0.60647 -0.23055 -0.58243 -0.22969 -0.55861 C -0.2283 -0.52532 -0.23889 -0.5015 -0.2184 -0.49087 C -0.20955 -0.49341 -0.20087 -0.49711 -0.19167 -0.49942 C -0.18368 -0.50567 -0.18281 -0.50567 -0.17587 -0.51422 C -0.17031 -0.52093 -0.16007 -0.53526 -0.16007 -0.53503 C -0.15642 -0.54543 -0.15174 -0.55422 -0.14861 -0.56486 C -0.14531 -0.61249 -0.16597 -0.6941 -0.12014 -0.70428 C -0.08889 -0.69318 -0.0868 -0.68278 -0.06128 -0.65364 C -0.05469 -0.64624 -0.04896 -0.63746 -0.04236 -0.63029 C -0.01753 -0.60324 -0.04114 -0.6326 -0.02951 -0.6178 C -0.03055 -0.59445 -0.03021 -0.5711 -0.03281 -0.54798 C -0.03385 -0.53896 -0.04288 -0.52994 -0.04861 -0.52671 C -0.05174 -0.52509 -0.05816 -0.52254 -0.05816 -0.52231 C -0.07344 -0.52324 -0.08889 -0.52278 -0.10434 -0.52463 C -0.11354 -0.52578 -0.12049 -0.53595 -0.12795 -0.5415 C -0.14514 -0.55353 -0.15764 -0.56509 -0.16962 -0.5859 C -0.17292 -0.60994 -0.17101 -0.60023 -0.17413 -0.61549 C -0.17257 -0.64347 -0.17257 -0.65711 -0.16146 -0.67908 C -0.15486 -0.70474 -0.13142 -0.71029 -0.11545 -0.72139 C -0.09739 -0.71515 -0.0967 -0.7096 -0.08055 -0.69179 C -0.07465 -0.68532 -0.06771 -0.68046 -0.06285 -0.6726 C -0.05799 -0.66451 -0.05 -0.64763 -0.04236 -0.64093 C -0.03976 -0.62913 -0.03594 -0.6141 -0.03125 -0.60301 C -0.02778 -0.59491 -0.02396 -0.58728 -0.02014 -0.57965 C -0.0191 -0.57757 -0.01684 -0.57341 -0.01684 -0.57318 C -0.01545 -0.56763 -0.01302 -0.56231 -0.01215 -0.5563 C -0.00625 -0.5133 -0.01354 -0.54567 -0.00903 -0.52671 C -0.00764 -0.50474 -0.00608 -0.48671 -0.00104 -0.46543 C 0.00052 -0.45873 0.00208 -0.45179 0.00538 -0.44647 C 0.00868 -0.44093 0.01649 -0.43168 0.01649 -0.43145 C 0.02604 -0.43237 0.03542 -0.4326 0.04497 -0.43376 C 0.05261 -0.43468 0.05573 -0.44671 0.06094 -0.45272 C 0.06615 -0.4585 0.07153 -0.46405 0.07674 -0.46983 C 0.08785 -0.48185 0.08889 -0.48555 0.09583 -0.49942 L 0.09583 -0.49919 C 0.09948 -0.50428 0.10695 -0.51422 0.10695 -0.51399 C 0.11007 -0.5311 0.11858 -0.5452 0.12413 -0.56069 C 0.1257 -0.59006 0.12882 -0.61572 0.12604 -0.64509 C 0.12535 -0.65272 0.12153 -0.66289 0.11945 -0.67052 C 0.11701 -0.68093 0.11563 -0.69526 0.11007 -0.70428 C 0.10365 -0.71468 0.09358 -0.72208 0.08629 -0.73179 C 0.07951 -0.74058 0.07431 -0.7533 0.06701 -0.76139 C 0.05903 -0.77087 0.05052 -0.77364 0.04028 -0.77619 C 0.01945 -0.76948 0.01372 -0.7422 -0.0026 -0.72763 C -0.00642 -0.717 -0.01215 -0.70983 -0.01684 -0.70012 C -0.01823 -0.69295 -0.02535 -0.67607 -0.01528 -0.69387 C -0.01476 -0.69665 -0.01458 -0.69965 -0.01371 -0.7022 C -0.01302 -0.70405 -0.01111 -0.70474 -0.01059 -0.70659 C -0.00955 -0.71052 -0.00989 -0.71491 -0.00903 -0.71908 C -0.00781 -0.72486 -0.00417 -0.73619 -0.00417 -0.73595 C -0.00312 -0.77989 -0.01458 -0.80185 0.0132 -0.81017 C 0.06094 -0.80832 0.06146 -0.81642 0.08941 -0.80162 C 0.09201 -0.79792 0.09601 -0.79422 0.0974 -0.7889 C 0.09983 -0.77919 0.09913 -0.77434 0.10382 -0.76578 C 0.10695 -0.74752 0.10851 -0.71769 0.11788 -0.70428 C 0.12083 -0.69295 0.11979 -0.70289 0.11632 -0.69179 C 0.11389 -0.68278 0.11233 -0.6733 0.11007 -0.66428 C 0.1066 -0.63052 0.1007 -0.59769 0.08941 -0.56694 C 0.08403 -0.5526 0.06701 -0.52902 0.06701 -0.52879 C 0.06024 -0.50705 0.04983 -0.48763 0.04028 -0.46752 C 0.03177 -0.44948 0.02899 -0.42844 0.01962 -0.41064 C 0.01163 -0.39561 -0.00382 -0.38358 -0.01059 -0.36832 C -0.02049 -0.3459 -0.04114 -0.33226 -0.05972 -0.32601 C -0.08646 -0.32994 -0.14062 -0.32393 -0.14062 -0.3237 C -0.14323 -0.32324 -0.14618 -0.32162 -0.14861 -0.32185 C -0.16632 -0.3237 -0.16719 -0.33619 -0.17743 -0.34913 C -0.17917 -0.35607 -0.18542 -0.36832 -0.18542 -0.36809 C -0.1868 -0.37595 -0.18837 -0.38382 -0.18993 -0.39145 C -0.18941 -0.41179 -0.18993 -0.43237 -0.18837 -0.45272 C -0.18785 -0.45989 -0.17847 -0.47237 -0.17587 -0.47607 C -0.16371 -0.49249 -0.15017 -0.50197 -0.13299 -0.50567 C -0.12569 -0.50451 -0.11614 -0.50405 -0.1092 -0.49942 C -0.09444 -0.48948 -0.10694 -0.49549 -0.09618 -0.49087 C -0.0868 -0.4733 -0.08489 -0.46913 -0.07899 -0.44856 C -0.0776 -0.4437 -0.07239 -0.43584 -0.07239 -0.43561 C -0.07205 -0.43376 -0.07101 -0.43168 -0.07101 -0.4296 C -0.07101 -0.42728 -0.07239 -0.42312 -0.07239 -0.42289 E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9:33:32Z</dcterms:created>
  <dc:creator>10813</dc:creator>
  <dc:description/>
  <dc:language>en-US</dc:language>
  <cp:lastModifiedBy>10813</cp:lastModifiedBy>
  <dcterms:modified xsi:type="dcterms:W3CDTF">2010-01-11T15:12:51Z</dcterms:modified>
  <cp:revision>11</cp:revision>
  <dc:subject/>
  <dc:title>Slide 1</dc:title>
</cp:coreProperties>
</file>